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7.jpeg" ContentType="image/jpe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ABFF3-1D35-4F45-ACD5-7D9C4E4A58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87C7-B521-47BA-AD36-0E52D442A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F8CB-B150-4E80-BD01-C0D87E86C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C303-09A6-4A97-9AF5-007D5DFB0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2C4E-F8F4-4B80-9692-CFC68B3A5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1679-972B-4E32-A329-85C966E1C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71F5-DC39-440E-9EB4-471AF9D5A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0C3D-5654-43C4-A2DE-EB6C5FA0E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8EAC-BBAD-4762-B907-4C59C3CDD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309B-8492-463E-B873-474A3E08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AB6A-448D-42CF-AD18-9969BFD1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3522-20F9-4B0E-ADF9-9D226974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1AE7-12C7-4CF3-95A2-B5DB8631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E26D5-4025-4A4C-A503-8F5E29BC9C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3809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Visit to the Zo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Kathy S. Wh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Œ2001 Kathy S. White. 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400068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 the Zo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286000" y="1752480"/>
            <a:ext cx="556272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 the monke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438280" y="2057400"/>
            <a:ext cx="5791320" cy="44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 the Zo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286000" y="1752480"/>
            <a:ext cx="556272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 the alligato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81080" y="2286000"/>
            <a:ext cx="4714920" cy="40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 the Zo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286000" y="1752480"/>
            <a:ext cx="556272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 the came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541008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 the Zo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286000" y="1752480"/>
            <a:ext cx="556272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 the hipp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81080" y="1905120"/>
            <a:ext cx="6096240" cy="47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 the Zo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286000" y="1752480"/>
            <a:ext cx="556272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 the l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541008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a Zo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3520" y="3657600"/>
            <a:ext cx="2971800" cy="2532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143000" y="4419720"/>
            <a:ext cx="1816200" cy="1511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4876920" y="1981080"/>
            <a:ext cx="400032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 the Zo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286000" y="1752480"/>
            <a:ext cx="556272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 the rhinocero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-533520" y="2514600"/>
            <a:ext cx="441036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 the Zo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286000" y="1752480"/>
            <a:ext cx="556272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 the l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51055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 the Zo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86000" y="1752480"/>
            <a:ext cx="556272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 the zebr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86000" y="2133720"/>
            <a:ext cx="5181480" cy="44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 the Zo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86000" y="1752480"/>
            <a:ext cx="556272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 the snak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86000" y="1828800"/>
            <a:ext cx="547704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the animals a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 the Zo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86000" y="1752480"/>
            <a:ext cx="556272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219320" y="1447920"/>
            <a:ext cx="571500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The En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 the bea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362320" y="1981080"/>
            <a:ext cx="508932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 the Zo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86000" y="1752480"/>
            <a:ext cx="556272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 the giraff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09680" y="2209680"/>
            <a:ext cx="5235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 the Zo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057400" y="1752480"/>
            <a:ext cx="556272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 the elepha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362320" y="1676520"/>
            <a:ext cx="556236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 the Zo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286000" y="1752480"/>
            <a:ext cx="556272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 the se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590920" y="1981080"/>
            <a:ext cx="5257800" cy="45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9T21:48:01Z</dcterms:created>
  <dc:creator>School District of Janesville</dc:creator>
  <dc:description/>
  <dc:language>en-US</dc:language>
  <cp:lastModifiedBy> </cp:lastModifiedBy>
  <dcterms:modified xsi:type="dcterms:W3CDTF">2005-01-27T19:52:41Z</dcterms:modified>
  <cp:revision>6</cp:revision>
  <dc:subject/>
  <dc:title>Animals Animals</dc:title>
</cp:coreProperties>
</file>